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49E-71AE-4270-84C5-26943422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016-7981-4422-8C13-FA479B27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49C-7A5B-4692-B10A-91573CCE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930-ABFB-4F36-B6F5-87B636C0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958D-0AD4-42BC-8071-04CC8EAE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A0B7-1B61-4C32-94C8-5ECED736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94A2-BF2B-410C-83A8-A7F17747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9E64-D528-4C83-A9E5-14A90D33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3C2B-4316-45EF-AA8D-B69AEB03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ECCD-9863-4E34-9868-8BEC430E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6D13-2757-45B7-9613-3B503C1B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389-DC5B-46AD-96D0-675B6AC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53DA-58BF-4350-ACEF-38C210F6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E296-7DBC-47A5-BA2C-D8B2ACC5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F38C-5F42-47D7-9198-B1DC3B57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47F9-61E8-4585-8D56-2493776A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1F45-4691-4EF2-B6CF-CEF3CFC2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BDC-2F5A-4796-A885-D64A6587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6694-4C25-4F45-BF82-216A5B83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369-E341-463B-BEDF-97D0D0AD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1F4-CF0C-4173-8793-101D62CC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905-B56C-4A66-8787-437BED8B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3A9-BBA2-427A-9764-336283DC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337-D5F7-4000-ABDB-FDD1CC9B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1DF7-FD67-43CC-B4DC-7C4DA72134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5BB7-B415-4021-8B29-C67312335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76C5-5AD4-4526-8C17-F62734F45C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7F49-F6A2-4A5E-B5D7-9D1B3F4EF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HotSp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de HotSpot de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alidades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enticación de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bilización por usuario por tiempo, datos transferidos/recib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itación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ca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mitación por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porte de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Zona de navegación libre (Walled Gar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 es una tecnología de autenticación que puede ser usada para proveer acceso publico a Inter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eropuertos, barcos, hoteles, Universidades, oficinas, salones de conferencia, hospi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redes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cas o inalám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rifa por autentificar o acceso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odo de registro en HotSp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ones habilita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 usuario se le asigna una dirección IP, puede ser por el método de 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autentifica al us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permite al trafico del usuario pasar a traves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Setup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sistente de configuración de HotSpot puede ser usado para configurar HotSpot. Este configura el sistema basado en respuestas a múltiples preguntas al ejecuta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el comando ‘/ip hotpot setup’ para ejecutar el asistente de configuración de HotS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falla la configuración, use ‘/system reset’ y empiece nuev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hotspot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cione la interfase donde estarán los usuarios a auten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interface: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ar configuración de cliente Univers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able universal client: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dirección en la Interfac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local de la red hotspot: 10.5.50.1/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mascarar red de hotspot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use enmascaramiento si se estan usando IP’s publicas en la red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e un pool para la red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es de la red HotSpot: 10.5.50.2-10.5.50.25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e pool es usado por el server DHCP para darles IP’s a los clientes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ar autentificación SS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ssl: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cione el server SM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IP del server SMTP: 159.148.147.19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erver de HotSpot redireccionara todos los mails de salida al server SMTP local, por tanto los clientes no necesitan cambiar la configuracion de correo en sus clientes de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ó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web proxy transparente para los clientes hotsp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web proxy transparent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cache local de D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 local dns cache: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l 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ers DNS: 159.148.147.194,159.148.60.20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s DNS servers seran anadidos a la configurac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DNS de los rutead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usados por los clientes de DHCP de 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mbre DNS del server 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ns name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pecifique el nombre DNS solamente si tiene un nombre real, de lo contrario déjelo en blanco, especificar un nombre equivocado hara que el HotSpot no funcione adecuadamente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stente de Configuracion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otro puerto para el servicio (ww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 80 es usado por el servicio www, seleccione otro puerto para el puerto de servicio, ejemplo 8081; es necesario para entrar vía winbox al ruteado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ree un usuario local de hot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ombre del usuario local de hotspot: j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ssword para el usuario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ola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server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-direc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mbre-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ersal-pro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h-requiere-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th-http-cook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ir-unencrypted-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plit-user-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t choice ('/ip service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profile de usuari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ile del usuario permite configurar los parámetros que son comunes para la mayoría de los usu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étodo de regi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ciones de filtrado de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limite de s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étodos de identificación de us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enticación, Autorización y Contabilización (AA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 Cliente de Ra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rma de usuario HotSpot y co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onentes Plug-and-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oS y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usuari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para usu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rio y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IP de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ón MAC de usu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ón automática de ru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mitación de datos por ca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nocimiento de usuario autoriz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Opción de marcado ('/ip hotspot profile'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Reglas de DST-NA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conexiones de usuarios auto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irecciona conexiones TCP no autorizadas al servicio Hot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Ejemplo: /ip firewall dst-nat print</a:t>
            </a:r>
            <a:br>
              <a:rPr sz="2900"/>
            </a:b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0   ;;; redirect unauthorized hotspot clients to hotspot service</a:t>
            </a:r>
            <a:br>
              <a:rPr sz="2900"/>
            </a:b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in-interface=local protocol=tcp flow=!hs-auth action=redirect to-dst-port=8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ir a usuarios autorizados el trafic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hazar el trafico de datos de usuarios no autorizados al ruteador y 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unos protocolos pueden ser permitidos, como ICMP y D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input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  ;;; account traffic from hotspot clients to hotspot servle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80 protocol=tcp action=ju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jump-target=hotspot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   ;;; accept requests for hotspot servle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80 protocol=tcp action=accept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   ;;; accept requests for local DHCP serve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dst-address=:67 protocol=udp action=accep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   ;;; limi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action=jump jump-target=hotspot-tem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forward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  ;;; limi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in-interface=local action=jump jump-target=hotspot-te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   ;;; account traffic for authorized hotspot clients action=jump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jump-target=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rule hotspot-temp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  ;;; return, if connection is authorized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flow=hs-auth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  ;;; allow ping reques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protocol=icmp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   ;;; allow dns reques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dst-address=:53 protocol=udp action=return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   ;;; reject access for unauthorized hotspot client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action=re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tSpot en interfaces múltiples v2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posible añadir otra interfase al sistema HotSpot, algunas reglas adicionales deben ser añadi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dst-nat add in-interface="prism2" flow="!hs-auth" protocol=tcp action=redirect to-dst-port=80 comment="redirect unauthorized prism2 clients to hotspot servic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forward add in-interface=prism2 action=jump jump-target=hotspot-temp comment="limit access for unauthorized prism2 client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input add in-interface=prism2 action=jump  jump-target=hotspot-temp comment="limit access for unauthorized prism2 clients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versión 2.9.x simplemente se da de alta un servidor hotspot 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zación de usuarios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eva tabla de firewall llamada  ‘hotspot’ debe ser aña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través de esta tabla debe ir todo el trafico (incluyendo el que va/viene del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firewall rule hotspot print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 D ;;; This rule is added by hotspot for user uldi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src-address=10.5.7.12/32 action=passthrough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D ;;; This rule is added by hotspot for user uldi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dst-address=10.5.7.12/32 action=pass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rsonalizando pagina de autent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paginas de login de HotSpot son facilmente modificables, están guardadas en el ftp server de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en el directorio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mbiando estas paginas puedes facilitar el proceso de login- ingresando solo el login o el password, o sin ingresar nada y solo leer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cuerdo de uso”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in meter ninguna información de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también redireccionar la información de login a otr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tSpot sin Login (para algun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permitir a algunas IP’s el uso de Intern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 usar el HotSpot, esto es sencillo, solo se adiciona una regla de mangle donde se marcaran los paquetes con la misma marca de los usuarios autentificados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/ip firewall mangle add src-address=10.5.50.100/32 action=accept mark-flow=hs-a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alled Garden (area lib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sistema que permite el uso de ciertos recursos a usuarios no autentificados, pero de cualquier manera requeriran autorizacion para otros recursos. Esto es ultil para que los usuarios de HotSpot puedan ingresar a paginas de ayuda o de cobranza aun si no han ingresado un lo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assword val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e: Actualmente no es permitido usar servers de https dentro del walled garden, de lo contrario hay que crear regla de mangle para permitir tal trafico.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ple: /ip firewall mangle add dst-address=159.148.108.1/32 mark-flow=hs-au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Walled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permitir accesos a gente no autorizada a la pagin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www.example.co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ig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paynow.htm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hotspot walled-garden add path="^/paynow\\.html$" \ \... dst-host="^www\\.example\\.com$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odos de identificación de usu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odos de identificación de host 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IP: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entrada estática en A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cion MAC: Server 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s de identificación de usu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jecute el wizard de HotSpot mas de una vez ya que no se configurara adecuadamente, si necesita reconfigurar de un ‘system/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despues de cambiar las paginas de HotSpot no funciona, restaure las paginas html de default: ‘/ip hotspot reset-html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ecificar un nombre DNS del servidor HotSpot, este no trabajara correctamente, si no tiene nombre, deje el nombre DNS v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lientes que deben tener Internet sin autentificar, revise las reglas de mangle para cada una de esas IP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kroTik RouterOS HotSpot Gatewa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ip/hotspot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Authentication, Authorization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guide/aaa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ga un system reset: ‘/system 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e la interface publica (habilitala, adiciona IP y puerta de enlace o gatew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a el setup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a una segunda Interfase en el sistema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utentificación local y rem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otSpot siempre autentificara usuarios desde la base de datos local, pero si no esta en la lista local preguntara al RADIUS server configurado si hay información de dicho usuarioch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, la autentificación remota debe estar habilitada con la información del RADIUS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RADIUS en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mote Authentication Dial-In User Service (RADIUS) provee contabilización, autentificación y autorización (AAA) centralizada , lo cual significa que puedes tener múltiples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HotSpot en diferentes localidades pero toda la información de usuarios guardada en un solo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RADIUS, esto da la facilidad de ofrecer ROAMING a los usuarios de HotS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cliente de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e soporte de cliente RADIUS para servicio de HotSpot en ‘/ip hotspot aa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hotspot aaa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use-radius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accounting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terim-update: 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 RADIUS anadido en  ‘/radiu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radius print detail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   service=hotspot called-id="" domain="" address=10.5.8.8 secret="hot" authentication-port=1812 accounting-port=1813 timeout=300ms accounting-backup=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l server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mínima del freeRADIUS para trabajar con HotSp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 host (NAS server) en clients.conf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 10.5.8.1 {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      secret=ho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      shortname=Hotspo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 nombre para el server NAS en el archivo user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er1 User-Password==“password1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heque el file radiusd.conf para estar seguro que esta debidamente instalado y la configuración esta puesta a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tributos útiles del server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 del archivo users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r1 User-Password == “password1”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cend-Data-Rate = 64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cend-Xmit-Rate = 128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v-Limit = 1024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Xmit-Limit = 2048000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lter-Id = user1.in,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lter-Id = user1.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onentes Plug-and-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HotSpot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autentificación 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irewall un NAT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fpara autenticación e intercep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Queues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limitación de velo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HCP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obtener direcciones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niversal Client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adaptación de IP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NS cache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procesamiento de requisiciones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Web Proxy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intercepción de requisiciones de web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33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UPnP server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para configuración automatica de computadoras compatibles con UPnP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rver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iversal Proxy – automáticamente crea reglas de DST-NAT para redireccionar requisiciones de cada usuario part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un proxy server que el usuario este usando hacia el proxy server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SL – provee comunicación segura entre el cliente y el server HotSpot usando Secure HTTP (HTT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alled garden – da acceso a los usuarios para navegar a areas especificas del web sin necesidad de autentif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solución: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PPoE es usado pa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smisión segura de datos y autentificación en r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 en capa 2 del modelo OSI, lo cual significa que el tunel es creado sin usar el protocolo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ftware del lado cliente es incluido en la mayoría de los S.O (ej. in WinX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tSpot automáticamente añade queues dinámicas para habilitar la velocidad para cada usuario. Estas velocidades pueden ser especificadas en  ‘/ip hotspot profile’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hotspot profile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0 * name="default" shared-users=1 tx-bit-rate=128000 rx-bit-rate=64000  mark-flow="hs-auth" login-method=enabled-address keepalive-timeout=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ues son anadidas en  ‘/queue simple’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queue simple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0  D name="&lt;hotspot-uldis&gt;" target-address=10.5.50.253/32 dst-address=0.0.0.0/0 interface=all queue=default priority=8 limit-at=0/0 max-limit=64000/128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HCP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 distribución de direcciones IP para una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 DHCP server bajo '/ip dhcp-server‘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dhcp-server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  name="hs-dhcp-server" interface=local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lease-time=1h address-pool=hs-pool-real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add-arp=no authoritative=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red del Server DHCP bajo ‘/ip dhcp-server network’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dhcp-server network prin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 ;;; hotspot network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address=10.5.50.0/24 gateway=10.5.50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dirección especifica por MAC address ‘/ip dhcp-server lease’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/ip firewall add address=10.5.50.254 mac-address=00:02:6F:20:34: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iversal Client/IP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ásicamente el cliente universal es un SRC-NAT antes de que el paquete sea marcado y filtrado usando el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iente Universal cambia cualquier IP a la dirección del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Bef>
                <a:spcPts val="9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iente universal puede trabajar junto con DHCP, proveendo acceso a clientes, sin importar su configuración de IP en su comput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IP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SzPct val="130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s estáticos de ‘Cliente universal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ción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ual IP se tras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tos estadísticos disponibles de cada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hotspot universal host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D mac-address=00:02:6F:20:34:82 address=10.5.50.254 to-address=10.5.50.254 interface=local uptime=6m14s idle-time=4m2s bytes-in=420 bytes-out=420  packets-in=7 packets-out=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0">
              <a:spcBef>
                <a:spcPts val="700"/>
              </a:spcBef>
              <a:buNone/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8020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che d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che de DNS es usado para minimizar requisiciones a un server DNS externo, asi como para minimizar el tiempo de re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es un simple DNS recursivo con entrada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nfiguración de DNS cache esta bajo ‘/ip dns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/ip dns print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primary-dns: 159.148.147.194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secondary-dns: 159.148.60.20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llow-remote-requests: y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cache-size: 2048 kB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cache-max-ttl: 7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cache-used: 202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che de 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adas estáticas pueden ser añadidas bajo ‘/ip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ns static‘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dns static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name="hotspot.mikrotik.com“ address=10.5.50.1 ttl=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ache puede ser visto bajo ‘/ip dns cache’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dns cache print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0   name="ns.internet.lv" address=194.105.56.6 ttl=20h47m56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  name="nsz.latnet.lv" address=159.148.60.4 ttl=22h43m32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lución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Proxy es usado para optimizar el acceso a Internet y reducir el flujo de datos desd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ndo un cliente pide cierta información via Web, el Web Proxy la entrega y la guarda. Si alguien mas solicita la misma informacion , es tomada del cache del Web Proxy y no desde el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guardar cache de flujos de datos de protocolos HTTP y FTP , adicionalmente como mediadir para flujos de datos de protocolo HT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o de Operación de Web proxy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o Reg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liente debe especificar en la configuración del explorador las configuraciones del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Web proxy puede ser un server se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o transpar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No ha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ecesidad de especificar los parametros del proxy server en la configuracion del explo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outer redirecciona las requisiciones de los clientes directamente al wb proxy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eb proxy debe ser cnfigurado en el ruteador (o en el bridg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TP no es soportado en modo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uncionalidades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xy HTTP 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xy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ser transparente y regular al mism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ta de acceso por origen, destino, URL y método de re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sta de acceso directo (especifica cuales recursos deben ser accedidos directamente y cuales a traves de otro 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ilidad de 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che puede ser guardado en un disco duro secun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114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itor de uso en ti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'/ip web-proxy'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rc-address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l web proxy usara esta direccion para conectarse a los sitios remotos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x-object-siz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jetos mas grandes que el tamaño especificado no serán almacenados en el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x-cache-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parent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-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che-drive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ache puede ser grabado en un segundo disco 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o de PP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lmente usado por ISP para autenticación de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limitar la velocidad de transmision y rece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binado con un ser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RADIUS es posible llevar registros de uso por cada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enabled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src-address: 0.0.0.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port: 808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hostname: 159.148.172.204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transparent-proxy: y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parent-proxy: 0.0.0.0: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ache-administrato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rbi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.com.mx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max-object-size: 4096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cache-drive: system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max-cache-size: unlimite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status: running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reserved-for-cache: 30083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Web 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 de uso en tiempo real ‘/ip web-proxy monito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: /ip web-proxy monito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status: running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uptime: 2d5h48m58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clients: 56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requests: 258236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hits: 121730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cache-size: 23018668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eived-from-servers: 1262203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sent-to-clients: 1564439 kB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hits-sent-to-clients: 300121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rver UP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PnP (Universal Plug-n-Play) implementa una simple y poderosa solución de NAT transversal, esto habilita al cliente para obtener completo soporte de una red peer-to-peer desde y hacia el 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porta red con descubrimiento automatico sin ninguna configuración inicial, con esto un dispositivo puede dinámicamente enlazar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PnP configuration under ‘/ip upnp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server UP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on UPnP bajo ‘/ip upnp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set enabled=y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interfaces add interface=public type=external disabled=n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/ip upnp interfaces add interface=local type=internal disabled=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imitacion de Peer-to-peer con HotS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imitar el trafico peer-to-peer cuando es usado HotSpot.  Algunos cambios en la configuración son neces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(upload/download) Nuevas reglas de mangle de Firewall deben marcar el trafico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regla de DST-NAT aceptara el flujo de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regla de firewall en la cadena Hotspot-temp chain aceptara el flujo de P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s (upload/download) Reglas de Queus de Arbol son necesarias de configurar para limitar el trafico de P2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imitacion de Peer-to-peer con HotS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Mangle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mangle add flow=hs-auth p2p=all-p2p mark-flow=allP2P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mangle add in-interface=public p2p=all-p2p mark-flow=allP2P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DST-NAT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dst-nat add flow=allP2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enes que mover esta regla arriba de la regla de re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 de Cadena de FW Hotspot-temp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ip firewall rule hotspot-temp add flow=allP2P action=retur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enes que mover esta regla arriba dela regla de rech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glas de Ques de Arbol: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queue tree add name=uploadP2P parent=public flow=allP2P max-limit=64000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queue tree add name=downloadP2P parent=local flow=allP2P max-limit=1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MikroTik RouterOS Hot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ip/hotspot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ual de Authentication, Authorization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.com/docs/ros/2.8/guide/aaa.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ga system reset: ‘/system rese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e setup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uebe el cliente Uni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icione un profile de HotSpot 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íquel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verifique limitaciones de ancho de b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a solución: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es usado para autenticación en la red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enticación esta basada en los protocolos HTTP/HTTPS, lo cual significa que trabaja con cualquier navegador (Explorer, Netscape, Mozi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es un sistema que combina varias funcionalidades independientes que el RouterOS provee y que son llamadas  acceso ‘Plug-and-Pla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 HotS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02980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 trata de abrir una pagina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heca si el usuario esta autenticado por el sistema hotspot, si no es así lo redirige a la pagina de autent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usuario provee la información de login y password para tener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114800" y="194796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a información de login y password fue correcta, e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utentifica al cliente en el sistema HotSpot y abre la pagina solicitada asi como una ventana de status pop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17360"/>
                <a:tab algn="l" pos="566640"/>
                <a:tab algn="l" pos="1015920"/>
                <a:tab algn="l" pos="1465200"/>
                <a:tab algn="l" pos="1914480"/>
                <a:tab algn="l" pos="236376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8000"/>
                <a:tab algn="l" pos="7305840"/>
                <a:tab algn="l" pos="7754760"/>
                <a:tab algn="l" pos="8204040"/>
                <a:tab algn="l" pos="865332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e usuario puede acceder al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81760" y="2190600"/>
            <a:ext cx="317160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fonso Urbina Araux</cp:lastModifiedBy>
  <dcterms:modified xsi:type="dcterms:W3CDTF">2006-02-24T18:22:08Z</dcterms:modified>
  <cp:revision>175</cp:revision>
  <dc:subject/>
  <dc:title>MikroTik RouterOS Firewall un HotSpot</dc:title>
</cp:coreProperties>
</file>